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8AD0F-507F-4C34-A288-703933127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C4C76-1276-40C0-96EB-B4300F921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8A045-0AF3-4E94-9785-0581BE256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4E459-2009-4363-956A-5897B5FEE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17355-6C59-4C56-BA38-7E34D6151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6EC85-3666-47A2-A96F-E1F94591E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58280-A3BD-47B1-A4F8-EC6D2B757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9558B-C4EA-4EE9-808D-9FC3BBC5A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89A09-DB09-4C9F-BBE5-C96CC2E16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7437A-550E-4FC7-AC9B-A89087FF7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227B7-D92A-4CE0-A6D2-9877D5D78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B915D-6D84-4AA8-BB9A-074E1A9CF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854189-1713-4549-9A84-F5786D90843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Boston Massc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514600" y="2057400"/>
            <a:ext cx="5257800" cy="434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o did it happen t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British solider, a colonist, and the small crowd that gathered around the fight were affecte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happene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British soldier and a colonist started a fight. This wasn't uncommon. A crowd gathered around them. Soldiers fired into the crowd and killed several colonist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en did it happe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Boston Massacre took place on March 5, 177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ere did it happe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took place in Bost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did this happe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th sides were enemies. They did not like each other. A colonist got into a fight with a Soldier and when the crowd gathered soldiers started firing. Many people died as an outcom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6T17:12:57Z</dcterms:created>
  <dc:creator/>
  <dc:description/>
  <dc:language>en-US</dc:language>
  <cp:lastModifiedBy/>
  <dcterms:modified xsi:type="dcterms:W3CDTF">2011-12-06T17:25:34Z</dcterms:modified>
  <cp:revision>2</cp:revision>
  <dc:subject/>
  <dc:title/>
</cp:coreProperties>
</file>